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36520" y="0"/>
            <a:ext cx="8896320" cy="6845400"/>
            <a:chOff x="236520" y="0"/>
            <a:chExt cx="8896320" cy="6845400"/>
          </a:xfrm>
        </p:grpSpPr>
        <p:sp>
          <p:nvSpPr>
            <p:cNvPr id="1" name=""/>
            <p:cNvSpPr/>
            <p:nvPr/>
          </p:nvSpPr>
          <p:spPr>
            <a:xfrm>
              <a:off x="236520" y="0"/>
              <a:ext cx="237960" cy="68454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39560" y="0"/>
              <a:ext cx="372960" cy="46674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2200" y="0"/>
              <a:ext cx="1082520" cy="33526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6440" y="0"/>
              <a:ext cx="304920" cy="3886200"/>
            </a:xfrm>
            <a:prstGeom prst="rect">
              <a:avLst/>
            </a:prstGeom>
            <a:gradFill rotWithShape="0">
              <a:gsLst>
                <a:gs pos="0">
                  <a:srgbClr val="05174b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2200" y="1467000"/>
              <a:ext cx="525600" cy="1219320"/>
            </a:xfrm>
            <a:prstGeom prst="rect">
              <a:avLst/>
            </a:prstGeom>
            <a:gradFill rotWithShape="0">
              <a:gsLst>
                <a:gs pos="0">
                  <a:srgbClr val="4b000c"/>
                </a:gs>
                <a:gs pos="100000">
                  <a:srgbClr val="fc0128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07960" y="1409760"/>
              <a:ext cx="8624880" cy="133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6520" y="1409760"/>
              <a:ext cx="889632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 txBox="1"/>
          <p:nvPr/>
        </p:nvSpPr>
        <p:spPr>
          <a:xfrm>
            <a:off x="90360" y="6485040"/>
            <a:ext cx="2822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om Hastings, Xerox Corp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 txBox="1"/>
          <p:nvPr/>
        </p:nvSpPr>
        <p:spPr>
          <a:xfrm>
            <a:off x="4430880" y="6485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E0A37B1A-D54B-44CD-B7CE-4C761C7CBA61}" type="datetime"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D79F85C7-0142-457B-83E4-8840867749D4}" type="slidenum"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and Local devic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371600" y="3886200"/>
            <a:ext cx="6400800" cy="24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ETF SNMP + DMTF D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verview and Extension to multifunction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m Has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Xerox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00560" y="5638680"/>
            <a:ext cx="249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990720" y="271440"/>
            <a:ext cx="716292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ITC Bookman"/>
                <a:ea typeface="ITC Bookman"/>
              </a:rPr>
              <a:t>DMI Archite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57720" y="1041480"/>
            <a:ext cx="1398600" cy="1879560"/>
          </a:xfrm>
          <a:prstGeom prst="rect">
            <a:avLst/>
          </a:prstGeom>
          <a:solidFill>
            <a:srgbClr val="e5405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02120" y="1041480"/>
            <a:ext cx="1403280" cy="1879560"/>
          </a:xfrm>
          <a:prstGeom prst="rect">
            <a:avLst/>
          </a:prstGeom>
          <a:solidFill>
            <a:srgbClr val="e5405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50920" y="5130720"/>
            <a:ext cx="971640" cy="635040"/>
          </a:xfrm>
          <a:prstGeom prst="rect">
            <a:avLst/>
          </a:prstGeom>
          <a:solidFill>
            <a:srgbClr val="e5405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67000" y="5532480"/>
            <a:ext cx="974880" cy="647640"/>
          </a:xfrm>
          <a:prstGeom prst="rect">
            <a:avLst/>
          </a:prstGeom>
          <a:solidFill>
            <a:srgbClr val="e5405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76320" y="5978520"/>
            <a:ext cx="974880" cy="638280"/>
          </a:xfrm>
          <a:prstGeom prst="rect">
            <a:avLst/>
          </a:prstGeom>
          <a:solidFill>
            <a:srgbClr val="e5405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127160" y="3538440"/>
            <a:ext cx="5429160" cy="1008000"/>
          </a:xfrm>
          <a:prstGeom prst="rect">
            <a:avLst/>
          </a:prstGeom>
          <a:solidFill>
            <a:srgbClr val="e5405d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746440" y="4600440"/>
            <a:ext cx="2305080" cy="401760"/>
          </a:xfrm>
          <a:prstGeom prst="rect">
            <a:avLst/>
          </a:prstGeom>
          <a:solidFill>
            <a:srgbClr val="114ffb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689200" y="2989440"/>
            <a:ext cx="2444760" cy="401760"/>
          </a:xfrm>
          <a:prstGeom prst="rect">
            <a:avLst/>
          </a:prstGeom>
          <a:solidFill>
            <a:srgbClr val="114ffb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22400" y="1015920"/>
            <a:ext cx="1395360" cy="1879560"/>
          </a:xfrm>
          <a:prstGeom prst="rect">
            <a:avLst/>
          </a:prstGeom>
          <a:solidFill>
            <a:srgbClr val="e5405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268280" y="2022480"/>
            <a:ext cx="90324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48160" y="2022480"/>
            <a:ext cx="1015920" cy="704880"/>
          </a:xfrm>
          <a:prstGeom prst="rect">
            <a:avLst/>
          </a:prstGeom>
          <a:solidFill>
            <a:srgbClr val="e5405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508040" y="1519200"/>
            <a:ext cx="4559400" cy="3430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Applic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556320" y="4094280"/>
            <a:ext cx="687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42120" y="3984480"/>
            <a:ext cx="1527120" cy="378000"/>
          </a:xfrm>
          <a:prstGeom prst="ellipse">
            <a:avLst/>
          </a:prstGeom>
          <a:solidFill>
            <a:srgbClr val="e5405d"/>
          </a:solidFill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96000" y="5130720"/>
            <a:ext cx="966960" cy="635040"/>
          </a:xfrm>
          <a:prstGeom prst="rect">
            <a:avLst/>
          </a:prstGeom>
          <a:solidFill>
            <a:srgbClr val="e5405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08480" y="5532480"/>
            <a:ext cx="976320" cy="647640"/>
          </a:xfrm>
          <a:prstGeom prst="rect">
            <a:avLst/>
          </a:prstGeom>
          <a:solidFill>
            <a:srgbClr val="e5405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21400" y="5978520"/>
            <a:ext cx="979560" cy="638280"/>
          </a:xfrm>
          <a:prstGeom prst="rect">
            <a:avLst/>
          </a:prstGeom>
          <a:solidFill>
            <a:srgbClr val="e5405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92320" y="5118120"/>
            <a:ext cx="973080" cy="635040"/>
          </a:xfrm>
          <a:prstGeom prst="rect">
            <a:avLst/>
          </a:prstGeom>
          <a:solidFill>
            <a:srgbClr val="e5405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13080" y="5516640"/>
            <a:ext cx="965160" cy="644400"/>
          </a:xfrm>
          <a:prstGeom prst="rect">
            <a:avLst/>
          </a:prstGeom>
          <a:solidFill>
            <a:srgbClr val="e5405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20960" y="5961240"/>
            <a:ext cx="976320" cy="639720"/>
          </a:xfrm>
          <a:prstGeom prst="rect">
            <a:avLst/>
          </a:prstGeom>
          <a:solidFill>
            <a:srgbClr val="e5405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258920" y="5786280"/>
            <a:ext cx="5222880" cy="3207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and Software Compon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237440" y="3627360"/>
            <a:ext cx="1538280" cy="1093680"/>
          </a:xfrm>
          <a:prstGeom prst="rect">
            <a:avLst/>
          </a:prstGeom>
          <a:solidFill>
            <a:srgbClr val="e5405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388280" y="3946680"/>
            <a:ext cx="1224000" cy="631800"/>
          </a:xfrm>
          <a:prstGeom prst="rect">
            <a:avLst/>
          </a:prstGeom>
          <a:solidFill>
            <a:srgbClr val="e5405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794800" y="3587760"/>
            <a:ext cx="0" cy="1119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43920" y="3332160"/>
            <a:ext cx="1550880" cy="409680"/>
          </a:xfrm>
          <a:prstGeom prst="ellipse">
            <a:avLst/>
          </a:prstGeom>
          <a:solidFill>
            <a:srgbClr val="e5405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43920" y="3559320"/>
            <a:ext cx="0" cy="1157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42120" y="4521240"/>
            <a:ext cx="1538280" cy="406440"/>
          </a:xfrm>
          <a:prstGeom prst="ellipse">
            <a:avLst/>
          </a:prstGeom>
          <a:solidFill>
            <a:srgbClr val="e5405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57960" y="4491000"/>
            <a:ext cx="1511280" cy="214200"/>
          </a:xfrm>
          <a:prstGeom prst="rect">
            <a:avLst/>
          </a:prstGeom>
          <a:solidFill>
            <a:srgbClr val="e5405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205080" y="2009880"/>
            <a:ext cx="1157400" cy="704880"/>
          </a:xfrm>
          <a:prstGeom prst="rect">
            <a:avLst/>
          </a:prstGeom>
          <a:solidFill>
            <a:srgbClr val="e5405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MI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434280" y="1336680"/>
            <a:ext cx="560520" cy="456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24040" y="-19080"/>
            <a:ext cx="77868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ing to the DMI enables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91400" y="4711680"/>
            <a:ext cx="554040" cy="71928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100000">
                <a:srgbClr val="003c3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788240" y="5124600"/>
            <a:ext cx="358920" cy="23184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100000">
                <a:srgbClr val="003c3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Remo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Ag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16000" y="3394080"/>
            <a:ext cx="1225800" cy="1182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06400" y="4214880"/>
            <a:ext cx="1533600" cy="352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76560" y="5643720"/>
            <a:ext cx="266760" cy="26676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95760" y="5645160"/>
            <a:ext cx="266760" cy="26676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76560" y="5629320"/>
            <a:ext cx="266760" cy="2667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1760" y="3902040"/>
            <a:ext cx="1295280" cy="623880"/>
          </a:xfrm>
          <a:prstGeom prst="rect">
            <a:avLst/>
          </a:prstGeom>
          <a:solidFill>
            <a:srgbClr val="8cf4ea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8960" y="3098880"/>
            <a:ext cx="1679400" cy="552600"/>
          </a:xfrm>
          <a:prstGeom prst="rect">
            <a:avLst/>
          </a:prstGeom>
          <a:solidFill>
            <a:srgbClr val="a2c1f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9520" y="2230560"/>
            <a:ext cx="1830240" cy="63180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4567320"/>
            <a:ext cx="2940120" cy="46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cf4e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35320" y="2598840"/>
            <a:ext cx="923760" cy="1981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243240" y="4160880"/>
            <a:ext cx="2129040" cy="423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451240" y="5059440"/>
            <a:ext cx="728640" cy="630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984400" y="5064120"/>
            <a:ext cx="203400" cy="568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6640" y="5068800"/>
            <a:ext cx="809640" cy="623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795760" y="4606920"/>
            <a:ext cx="8366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8cf4ea"/>
                </a:solidFill>
                <a:latin typeface="Arial"/>
                <a:ea typeface="Arial"/>
              </a:rPr>
              <a:t>D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87800" y="5324400"/>
            <a:ext cx="6080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30200" y="3946680"/>
            <a:ext cx="12574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sta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79640" y="1657440"/>
            <a:ext cx="1587600" cy="1081080"/>
          </a:xfrm>
          <a:prstGeom prst="rect">
            <a:avLst/>
          </a:prstGeom>
          <a:solidFill>
            <a:srgbClr val="00968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703600" y="1658880"/>
            <a:ext cx="18748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ird Par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pplications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50840" y="5913360"/>
            <a:ext cx="20131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odems,Disk Dr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Video &amp; Network Ad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154320" y="5937120"/>
            <a:ext cx="14461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S, Application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rivers, B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703760" y="5937120"/>
            <a:ext cx="1793880" cy="8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eripher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ouse, Printe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odems , Tape Dr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65800" y="2279520"/>
            <a:ext cx="803160" cy="612720"/>
          </a:xfrm>
          <a:prstGeom prst="rect">
            <a:avLst/>
          </a:prstGeom>
          <a:solidFill>
            <a:srgbClr val="009688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N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g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83080" y="3048120"/>
            <a:ext cx="814320" cy="612720"/>
          </a:xfrm>
          <a:prstGeom prst="rect">
            <a:avLst/>
          </a:prstGeom>
          <a:solidFill>
            <a:srgbClr val="a2c1fe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M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g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69040" y="3797280"/>
            <a:ext cx="655560" cy="110160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175360" y="1092240"/>
            <a:ext cx="11206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g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ovi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916680" y="789120"/>
            <a:ext cx="194940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68960" y="2602080"/>
            <a:ext cx="1077840" cy="61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267680" y="1828800"/>
            <a:ext cx="1457280" cy="1101600"/>
          </a:xfrm>
          <a:prstGeom prst="rect">
            <a:avLst/>
          </a:prstGeom>
          <a:solidFill>
            <a:srgbClr val="009688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NMP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ns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176880" y="3278160"/>
            <a:ext cx="1278000" cy="14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472520" y="3116160"/>
            <a:ext cx="1457280" cy="857160"/>
          </a:xfrm>
          <a:prstGeom prst="rect">
            <a:avLst/>
          </a:prstGeom>
          <a:solidFill>
            <a:srgbClr val="a2c1fe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nterp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ns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33960" y="4362480"/>
            <a:ext cx="1530360" cy="64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93120" y="4200480"/>
            <a:ext cx="1393920" cy="134604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232080" y="2592360"/>
            <a:ext cx="2124000" cy="1986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252960" y="3382920"/>
            <a:ext cx="2116080" cy="1197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59080" y="2778120"/>
            <a:ext cx="0" cy="177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567560" y="4327560"/>
            <a:ext cx="143820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C L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latfor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nd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5120" y="3095640"/>
            <a:ext cx="13921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gnostic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nd Ale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42800" y="2238480"/>
            <a:ext cx="199080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oduct Set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nd Configu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47880" y="295200"/>
            <a:ext cx="404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480000" y="1584360"/>
            <a:ext cx="568440" cy="38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ing the Printer MIB to M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 MIB for managing scanner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 MIB for managing multifunction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 MIB for job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int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ultifunction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define scanner and FAX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ttributes of a scanner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ttributes of a FAX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ine new DPA object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ke printer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xxx-supported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xxx-ready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te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on to multi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ob has source and dest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twork fil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tin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twork fil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destination j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mple for PCs and simple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et extend to high en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troduce idea of jobs containing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 each basic job has only one destination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bably want to allow multiple phone numbers on a single F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ing multi-level j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rver does it transparently to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ient specifies scan source, print dest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er transforms one-level job into two-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ob contains one scan job and one print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ent submits multi-level job explici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tend DPA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 create subjob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xt Ste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66680" y="1447920"/>
            <a:ext cx="7848720" cy="47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ed people with MF expertise to define scanner/FAX SNMP device MIBs and DMI M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tup an IETF/DMTF WG to define scanners and FAX SNMP MIB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join existing IETF/DMTF PW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join some other group? MFPA W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join ISO DPA WG to extend ISO D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eep MIB objects equivalent to new DPA job, scanner/FAX device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Information on IETF/DMTF PW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 be added to email li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mi-request@hpbs987.boi.hp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WG is meeting month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424160" y="423720"/>
            <a:ext cx="759780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Information on DMT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568520" y="1868400"/>
            <a:ext cx="73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axBACK:        (800) 525-30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k for Document #55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MTF hotline:  (503) 221-29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ite 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c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lletin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TP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95480" y="6597720"/>
            <a:ext cx="5948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*Other brands and names are the property of their respective own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tus of SNMP, DMI, Printer MIB, Printer MIF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verview of IETF SNMP and MI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mote management on a 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verview of DMTF DMI and M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cal management on a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eps for Extension to multi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of SNMP, Printer MIB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NMPv1 internet standard 19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NMPv2 approved, except for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inter MIB, RFC 1759, March 19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 a proposed standard - at least 6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xt step is a draft standard - at least 3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roved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vailable:  ftp.isi.edu  /in-notes/rfc1759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of DMTF, Printer MIB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sktop Management Task Force (DMT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sortiium: DEC, HP, IBM, Intel, Microsoft, Novell, SunConnect, SynOp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MTF DMI V1.0 standard published April 19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inter MIF, WG draft September 1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inter WG (PWG), joint IETF/DMTF, started Sept 19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view of IETF SN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mple Network Management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or managing devices an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ines set and get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n data objects (attrib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nagement station issues sets and 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gent implements the sets and gets for a particular M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Information Base (MIB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ed a specification for each kind of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amples: Printer MIB, host resources M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pecification of data objects (attrib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amples: DeviceType, DeviceModel, InputStatus, InputMediaName, CurrentOperator, ServicePerson, ConsoleDisabl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MIB, RFC 175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74 accessible objects in 8 mandator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58 accessible objects in 10 optional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quires Host Resouces MIB and MIB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3 accessible objects in 1 mandator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2 accessible objects in 5 optiona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MIB devic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371600" y="1173240"/>
            <a:ext cx="701028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MIB place in the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23880" y="895320"/>
            <a:ext cx="660708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Talk given to MFPA IOC Sept 28-29, 1995</dc:description>
  <dc:language>en-US</dc:language>
  <cp:lastModifiedBy>ES Xerox</cp:lastModifiedBy>
  <cp:revision>0</cp:revision>
  <dc:subject>Extension to multifunction</dc:subject>
  <dc:title>LAN and Local Device Management</dc:title>
</cp:coreProperties>
</file>