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282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m Hastings, Xerox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15168549-323C-4B55-B3A8-26D21D679299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A8ED8E1-9B14-4854-AF6B-B029449C6AB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SO 10175 Document Printing Application (DP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and 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24240" y="558180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erox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7400" y="2057400"/>
            <a:ext cx="77868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57400" y="1957320"/>
            <a:ext cx="77868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Job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s contain one or mor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entir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0 job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job-name, print-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9 job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: current-job-state, ignored-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ocument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on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 document can have different value in a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3 document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format, sides, i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 document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state, copies-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Printer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7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gical and physical print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5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supported, document-formats-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 - no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printer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xtension to multi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b has source and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ultiple destination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for PCs and simp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t extend to high e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e idea of jobs contai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 each basic job has only one destina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ably want to allow multiple phone numbers on a single 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reating multi-level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 does it transparently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specifies scan source, print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 transforms one-level job into two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b contains one scan job and one pri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submits multi-level job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create subjob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ed to define scanner and FA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scanner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FA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new DPA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print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676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people with MF expert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define new scanner/FAX DPA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jobs for multi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 ISO DPA WG to extend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DPA job, scanner/FAX device attributes equivalent to new MF MIB o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rrent Implementations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ore Information on ISO DP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e-mail to hastings@cp10.es.xero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: (310) 333-64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be added to dpa@woden.eng.sun.com D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 request to: rherriot@woden.eng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PA final text and Part 3 dra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tatu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nal Text, Part 1 and 2 of ISO 10175, May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3 draft, based on POSIX 138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SIX 1887.4 System Administration Part 4: Print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 8, voted October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/pub/snmpmib/posi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verview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-server protocol for 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of jobs, print systems and pr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ject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7 operations on 19 typ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00 attribut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lternative packaging of DPA “box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2600" y="1676520"/>
            <a:ext cx="6638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ully networked DPA pri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85680" y="1600200"/>
            <a:ext cx="588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mplementation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zel Delivery, Dazel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ing Systems Management (PSM),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xchange, Digital Equipment Corp, Sun Microsystems, Xerox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are Distributed Print Services (NDPS), No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 types (cla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Us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Hastings</dc:creator>
  <dc:description>Presentation to MFPA IOC Sept 28-29, 1995 - different backgrounds</dc:description>
  <dc:language>en-US</dc:language>
  <cp:lastModifiedBy>ES Xerox</cp:lastModifiedBy>
  <cp:revision>0</cp:revision>
  <dc:subject/>
  <dc:title>ISO DPA and extension to multifunction</dc:title>
</cp:coreProperties>
</file>