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B0A2-6B96-4C65-A793-E7DAEB17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D68F-C8E2-446E-89F0-447262BE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FD2AA-2E6D-4B82-B888-89537A49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02BA6-9904-4538-ADF2-C7299EDE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ACD2-A1EA-4019-AB7F-DDA88689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D387-37CF-41C3-A181-82FBB5BE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3042-CEC1-42F5-BCF4-4279380C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08C9-340F-4397-B502-D78BCED9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2D32-E24E-444B-8041-60394234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DDF6-03F0-4D64-9120-53C925D4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3653-B48E-415C-9233-91168BE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9186-8B58-4386-9B0A-994740FB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8773-840C-4D22-A6BA-F6143AF7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F31D-00AA-459D-91E0-0E87045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61BD-C2C8-49F7-8CBE-807D10CD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26E6-8ECF-4715-9400-6A877D96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45A8-BBF4-4AB5-B86F-B9154C77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ED43-F128-4B9F-9708-4E540A63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39A0-7368-40B4-BE4C-F0B492AE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8D1A3-2232-40BC-9213-2C6135C8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F9C3-D924-4DD5-B7B2-3AE15222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90F8-9461-4D25-AF4B-4B9B61C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8FFD-341D-4233-8DBD-902425AF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8AE3-6ABC-4E7A-A8F9-86412E6D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004C-6DFB-4DFF-9E7F-1301E29080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7EC5-7029-4DA3-AA5B-CDFFB84627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Notification and Discover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ation B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O – December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Best Pract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PWG Notification best practices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fication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olidate subscription attributes from various delive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Subscription and Notification schema for WBMM / P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late with existing notification / messaging protoc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 PWG Semantic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Notification server (ser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printer-service-proxy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er MIB top 25 – commonly instrumente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event archite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Notifications Stat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P Notification Base spec, IPP GET, INDP and MailTo submitted to IE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P and MailTo rejected as push security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spec scrutinized for allowing push no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sh methods with no SPAM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PS 1.2 will ship MAILTO and IND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I and IFX Server directed po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ed in Pro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IPP 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s Things to 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e call for interest on PWG-ANNO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 Workin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Practices doc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and Server best practices or conformance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using IPP Base notification and IPP GET IETF drafts as reference (where applic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 pending PWG working group reque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Evaluation and PWG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on experience and actual market n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te client con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Practices and Templates NOT in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sting Methods and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AP (with IETF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P (with IETF templ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MTF (CIM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Directory (with Microsoft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S (with Novell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MP (basis for many printer discovery applic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nP v1 SSDP and follow-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e Rendezvous / DNS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DDI “T Model” (for public print serv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’t scale for device disco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gnment achieved between SLP, LDAP, SNMP  and PWG Semantic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NA registered LDAP schema (RFC Pen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Doma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– SOHO (Non-routed sub 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zvous, SSDP, SLP, SN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AP, SLP, Active Directory, NDS, *SNMP, *DNSsd, *SSD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(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Printer or Print Service T model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May not scale – no directory a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urrent Capabilities Discovery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DDD – pointer to SC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W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SC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service interface and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in practice to learn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Model Sub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y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Best Pract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WG Discovery Best Practices working draf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, WBMM or IFX Implementers guid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Discovery Best Practices Guid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best practices on content for service / device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atory, Recommended and Optional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informative guide for how to construct discovery queries /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 order of use for discovery protocols within a domain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– PWG Things to 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 call for interest on PWG-ANNO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ractices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nd Server best practices or conformance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 by extracting from PSI discovery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Evaluation and PWG 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experience and actual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ite client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scovery Technology Direc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T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Conf (formerly XMLCon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MPCon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DDI Prin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ing, cost estima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ide of our dom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s of prin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ck 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nP follow-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Practices and Templates NOT i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Methods and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PP (Instant Messag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(??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asis WS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Doma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– S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23:44:35Z</dcterms:created>
  <dc:creator>Harry Lewis</dc:creator>
  <dc:description/>
  <dc:language>en-US</dc:language>
  <cp:lastModifiedBy>Harry Lewis</cp:lastModifiedBy>
  <dcterms:modified xsi:type="dcterms:W3CDTF">2003-12-05T17:56:34Z</dcterms:modified>
  <cp:revision>181</cp:revision>
  <dc:subject/>
  <dc:title>PWG – January 2003</dc:title>
</cp:coreProperties>
</file>